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0F91-503A-4F4F-82E8-08B29013F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2B53-88EC-4060-9949-6FA39A67F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task cards (Option A and Option B - shopping for fruit ju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blank PPQ templates needed here – double-sided would be be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E6F2-F525-4B2B-8D2A-10CC2CD9B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799-10A4-4A45-9B8B-C96AFA02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7B8-0C40-48F4-8647-864BAA8A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219-CFC2-4E9D-87D8-10C98029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D3C-2A48-48B5-9F43-FFBC641D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C714-17C8-4E37-B8AA-22D70A15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EB6A-F9D4-4172-A23A-E9DD4E80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1DA3-F458-43FD-97F5-786657B4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96D6-8EDD-47FF-9D14-2E856F46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9454-53A2-49D8-B7C2-6F5B39F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AEED-DC42-4ACC-AF2A-ED221A22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B62B-FE39-4633-9A43-C0F6795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32D-ED32-4865-A6BC-4156428D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0FEB-6BBE-4250-B225-CE43C42A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F385-DBE2-4728-9448-B55F7F5A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74F0-10DA-46CE-80E9-F88405CA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57AC-BB72-4954-A8B1-BF24C860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C833-1C05-49F6-B3B5-866031BB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85F-0F9E-41C6-9D7B-9E8A405F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27E-CAA0-4344-9F1E-01D19E7E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EB7-6F40-444B-8D2D-414C9A9D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157-8812-4F64-8256-D1882223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CEA-0A0C-43D7-ADA4-1550F3D4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E75-C18C-46AA-80C5-CA628C8B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33F-20A8-4A5C-8942-76CDD6C6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7609-AB22-4654-8DBC-6D7F29940B0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57F0-8DD7-4059-B5DB-A7D75B4CE18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Arial"/>
              </a:rPr>
              <a:t>Grades 7/8 Breakout Session 3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Enjoy a wonderful lunch </a:t>
            </a:r>
            <a:r>
              <a:rPr b="0" lang="en-US" sz="4800" spc="-1" strike="noStrike">
                <a:solidFill>
                  <a:srgbClr val="0d469b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ontinue to develop our math talk learn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deepen understanding of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solve parallel tasks related to r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identify a Big Idea and lesson goal for the tasks 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a Paralle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You will be representing the solution to the task you choose in two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two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either Option A or Option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artner at another table who chose the same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a Paralle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your new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task you chose in two different ways (we would encourage you to try a concrete representation as one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Debriefing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what two different ways did you represent the problem/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store has the better deal? How did you deci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ing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sing Powerful Questions templat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urriculum expectation, a Big Idea, and a lesson goal for the “100% fruit juice”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lving Another Paralle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with the same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 the two parallel tasks and choose one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 the problem/solution in two different ways (try to use at least one representation you did not use for the first ta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alyzing th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sing Powerful Questions templat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urriculum expectation, a Big Idea, and a lesson goal for the “pizza per camper”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ways do these parallel tasks support varying student readiness lev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Michelle Lang</cp:lastModifiedBy>
  <dcterms:modified xsi:type="dcterms:W3CDTF">2010-08-16T01:32:48Z</dcterms:modified>
  <cp:revision>178</cp:revision>
  <dc:subject/>
  <dc:title>Slide 1</dc:title>
</cp:coreProperties>
</file>